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EEC7-83DD-4BD5-8BB9-24DBE859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D75E-E931-4EF6-8CD0-4C2FD5C8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3D9E-AE55-468B-BD51-94726D86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93DB-BE20-46C4-A010-974E8037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DBBB-363A-4E1D-AC3E-011BC3A8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FD37-30E6-4F2E-8D87-52FCFF1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05AD-A44E-48A1-9039-1306E44D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5B6B-2682-4D65-A981-141B5351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25EE-FDDE-4E1B-BC5D-94C28D5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FF603-AEF1-4E05-BC65-F8308F3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D858-A03F-48AC-8ECC-89A3312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F82B5-569E-4DB3-B4D3-8397AD9B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E1ECB055-B28F-4CAE-8F9D-7953AF33996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1967-6D42-41B2-AAB3-847130922B02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48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51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0240" y="4724280"/>
            <a:ext cx="8581680" cy="1907640"/>
            <a:chOff x="660240" y="4724280"/>
            <a:chExt cx="8581680" cy="1907640"/>
          </a:xfrm>
        </p:grpSpPr>
        <p:sp>
          <p:nvSpPr>
            <p:cNvPr id="56" name=""/>
            <p:cNvSpPr/>
            <p:nvPr/>
          </p:nvSpPr>
          <p:spPr>
            <a:xfrm>
              <a:off x="4043520" y="5257800"/>
              <a:ext cx="5198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240" y="4724280"/>
              <a:ext cx="288828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43520" y="4724280"/>
              <a:ext cx="51984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85360" y="609588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58640" y="6172200"/>
              <a:ext cx="181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6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199120" y="1905120"/>
            <a:ext cx="2022120" cy="2819160"/>
            <a:chOff x="5199120" y="1905120"/>
            <a:chExt cx="2022120" cy="2819160"/>
          </a:xfrm>
        </p:grpSpPr>
        <p:sp>
          <p:nvSpPr>
            <p:cNvPr id="75" name=""/>
            <p:cNvSpPr/>
            <p:nvPr/>
          </p:nvSpPr>
          <p:spPr>
            <a:xfrm>
              <a:off x="5199120" y="1905120"/>
              <a:ext cx="90756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3657600"/>
              <a:ext cx="99036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1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9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45160" y="1905120"/>
            <a:ext cx="74268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104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2-19T13:16:56Z</dcterms:modified>
  <cp:revision>52</cp:revision>
  <dc:subject/>
  <dc:title>xPanel &amp; PCO2</dc:title>
</cp:coreProperties>
</file>